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3.jpeg" ContentType="image/jpeg"/>
  <Override PartName="/ppt/media/image22.wmf" ContentType="image/x-wmf"/>
  <Override PartName="/ppt/media/image26.jpeg" ContentType="image/jpeg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jpeg" ContentType="image/jpeg"/>
  <Override PartName="/ppt/media/image11.jpeg" ContentType="image/jpeg"/>
  <Override PartName="/ppt/media/image36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40.jpeg" ContentType="image/jpeg"/>
  <Override PartName="/ppt/media/image9.png" ContentType="image/png"/>
  <Override PartName="/ppt/media/image38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12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  <p:sldId id="293" r:id="rId71"/>
    <p:sldId id="294" r:id="rId72"/>
    <p:sldId id="295" r:id="rId73"/>
    <p:sldId id="296" r:id="rId74"/>
    <p:sldId id="297" r:id="rId75"/>
    <p:sldId id="298" r:id="rId76"/>
    <p:sldId id="299" r:id="rId77"/>
    <p:sldId id="300" r:id="rId78"/>
    <p:sldId id="301" r:id="rId79"/>
    <p:sldId id="302" r:id="rId80"/>
    <p:sldId id="303" r:id="rId81"/>
    <p:sldId id="304" r:id="rId82"/>
    <p:sldId id="305" r:id="rId83"/>
    <p:sldId id="306" r:id="rId84"/>
    <p:sldId id="307" r:id="rId85"/>
    <p:sldId id="30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slide" Target="slides/slide38.xml"/><Relationship Id="rId72" Type="http://schemas.openxmlformats.org/officeDocument/2006/relationships/slide" Target="slides/slide39.xml"/><Relationship Id="rId73" Type="http://schemas.openxmlformats.org/officeDocument/2006/relationships/slide" Target="slides/slide40.xml"/><Relationship Id="rId74" Type="http://schemas.openxmlformats.org/officeDocument/2006/relationships/slide" Target="slides/slide41.xml"/><Relationship Id="rId75" Type="http://schemas.openxmlformats.org/officeDocument/2006/relationships/slide" Target="slides/slide42.xml"/><Relationship Id="rId76" Type="http://schemas.openxmlformats.org/officeDocument/2006/relationships/slide" Target="slides/slide43.xml"/><Relationship Id="rId77" Type="http://schemas.openxmlformats.org/officeDocument/2006/relationships/slide" Target="slides/slide44.xml"/><Relationship Id="rId78" Type="http://schemas.openxmlformats.org/officeDocument/2006/relationships/slide" Target="slides/slide45.xml"/><Relationship Id="rId79" Type="http://schemas.openxmlformats.org/officeDocument/2006/relationships/slide" Target="slides/slide46.xml"/><Relationship Id="rId80" Type="http://schemas.openxmlformats.org/officeDocument/2006/relationships/slide" Target="slides/slide47.xml"/><Relationship Id="rId81" Type="http://schemas.openxmlformats.org/officeDocument/2006/relationships/slide" Target="slides/slide48.xml"/><Relationship Id="rId82" Type="http://schemas.openxmlformats.org/officeDocument/2006/relationships/slide" Target="slides/slide49.xml"/><Relationship Id="rId83" Type="http://schemas.openxmlformats.org/officeDocument/2006/relationships/slide" Target="slides/slide50.xml"/><Relationship Id="rId84" Type="http://schemas.openxmlformats.org/officeDocument/2006/relationships/slide" Target="slides/slide51.xml"/><Relationship Id="rId85" Type="http://schemas.openxmlformats.org/officeDocument/2006/relationships/slide" Target="slides/slide52.xml"/><Relationship Id="rId86" Type="http://schemas.openxmlformats.org/officeDocument/2006/relationships/slide" Target="slides/slide53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dt" idx="9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 type="ftr" idx="9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 type="sldNum" idx="9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482B-A70A-43DE-9707-9B5328924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4F93-243B-459A-BA56-E3505DB5F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97D4-753B-4CE7-B6D1-526C17D3E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 документација представља златни стандард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чунавање мера учинка (перформанси) здравствених установа и здравственог система, а  обезбеђује   здравственим  радницима  поновни   увид  у  раније пружену здравствену заштит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ај начин би ризик по здравље пацијената требало да буде сведен на минимум,  а да корист по пацијента буде максимал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004F-3CC5-46EC-AEFC-1CC18A904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C98E-2889-4542-A1DB-879B90BF6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2F0-85C8-4AB5-9805-A7EE9FCC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909-29DC-47E8-81C1-B0847437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A0A05-BEA7-4800-AC07-A7108431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17010-3A80-432B-AC27-1210A0C3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5758A-AE44-4D57-95F0-3C60E9AF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2BE3B-155E-47A6-8E62-6F0F6E75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F93FD-0052-46D6-AC24-D88BBA0E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DA923-77FE-40A1-BCE6-98EEE76E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30AE1-A065-4D27-A37C-0A4C5D10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1BB00-48A1-4744-A429-3E3E6301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9D04C-6B86-49A2-9BFC-ED37B561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143B7-5389-4155-B407-C9ED36CB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F75-427E-43E6-8B03-74DE57A6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6F62B-254A-4570-81A8-BFFBCD02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0149E-A391-420F-A214-F2586C15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2B0C6-577D-4002-BB95-8FD13803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E72F4-5447-4954-A24D-716B89E6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EA14F-8332-413C-AF16-4F1ACCBC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0FDAA-38D6-4FC7-846C-E56CF7A6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5EDA8-7F55-4AF1-8223-BD3D87C8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48C27-AD96-46EA-AC83-CC438DE3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70431-7F12-48EC-8495-A1951485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BBD0E-0910-4090-A3AB-2A29216A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767-AD6A-419D-B9FD-16472837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C7541-73EF-4BC8-B2BE-50FBD659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5E676-27CB-4B09-9B5E-BC3BE903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CC8E4-22CB-4987-B214-5593F318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9E3A9-366B-462A-BEC2-E0A6ADDB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867DB-BC74-4B78-84F5-1C0B7F3C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2F6F7-81D0-4B41-AB61-18868C75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1A9E9-5D04-48D7-B23F-2FBE4778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E827C-1D78-47DB-9B2F-9E363914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7EEF4-BC66-4CE9-B279-9FDF2CA4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B4FBB-A3A8-484C-A812-820F9EB0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6878-639C-485D-9E72-11FBB6AB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57798-D5B3-4D88-9346-64080B57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A70BE-D8C5-44C8-8582-1ADDBC01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D7274-3DE2-4DE7-BBCD-630E15AC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1330C-217D-4D70-BB83-06F67322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4B929-DFF2-4E10-B4EB-046BC9DC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0CA47-E943-4797-873E-569A4080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4FD81-96F3-4793-AC51-E76A9848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E7286-52CB-451B-A483-3E49B565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40C95-45AC-4016-A33E-709D2615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079F3-2A76-4F42-9D42-1C9D10FE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33F3-FD2F-4BDA-9EF1-5BFBDF37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3FC7AB-183D-47B8-82E8-91583572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89C24-8B26-403E-BBBD-9CC74559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46AB8-63C1-4444-97CC-14743EF5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CCD1C-1A17-4FA2-BB75-407CCBEA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0A637-B630-4EEB-A0EB-8B22921F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82357-6851-4520-A8E8-CC6B1700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EAA2B-A926-40DA-BB06-99FCDB21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B84891-A6F7-40D9-812C-8A57F712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A954B-FC4A-4CC2-8768-15EEFEAE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6F8DCF-A540-47A0-B952-4EA62455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A37E-B588-42DB-BB54-8F12F412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67373-3555-4C07-8F7F-82613E0C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2D5B6-787B-42D0-B272-D4E9C068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8FF0D-AE1C-42E9-8E57-E353EB65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BD049-8408-4C0C-9E6A-7F17F24F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0AF4F-F3E2-4F1D-BDDF-6A427012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A1DE4-BB56-4D2E-81F2-B726CB1B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8C54E-5564-476C-B4D6-0B4914CB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09D7A-FE3F-4D8A-ABCE-4B7AF858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2D3B6F-0673-4F04-A8A6-1E812775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C025D9-6C2E-474D-9B22-4597BB8F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2BAA-1430-45CC-80CA-238CD0CF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3680B4-B550-43E8-A2FB-56C3C50C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550F88-5DC2-401C-A1E5-34E0E69A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4EA842-407C-4A7D-A56A-6ED28AD0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12138-AC11-4343-9D21-2803141C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E86E00-A5FC-47EC-9B91-EBB073AE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A5DC63-AE70-4E6D-AD18-B1198F94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F0B3D-285D-4F49-8B08-FD626A86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3E286-6333-4B06-A14E-E48D289E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FC7538-C1A6-454B-AC88-65A31B67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3842FA-1D71-477F-8853-C0F7D506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0E6C-B577-4A75-BF7B-0ED1E13A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944D49-F0A6-4071-BFF9-317FFF52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B9BB25-B379-4CFF-A2CC-70EA982F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DA6A9-AD12-4057-AE9D-FAB626DD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1FF57C-C88D-4FE9-91A3-282034B3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E9AE50-EFC4-403A-AA96-2A3976FA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DCDD80-F3CE-4513-B8DF-A04FEC15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108889-B9D8-484A-A743-75919E4B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BA17DE-E8BB-49A4-A66D-976C7537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A17FEE-3276-4CE9-B7BE-8EFACDC3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6770A-FFDC-41DA-8508-D879B704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C7D8-88EB-43B7-BD3B-E9591866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E5EC4-1AC1-4AB9-9636-39610A99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240D08-DA26-481D-BD5C-BE65DDA1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BD59EE-6609-4D39-99E9-A8A335B1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5930F1-5C29-4EB7-81DD-A0E6F041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E6F7C8-D35A-499A-A68D-70728FD7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03A510-C318-4592-A389-7E396505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173622-D313-458E-9FBE-A325AE8B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F53BB9-1DDC-4F89-941C-640DD31E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D2DA75-80E5-45DD-8F09-60F70567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F2506E-E516-4741-8BD7-1FA40A13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DCA8-1BD1-4D80-AE86-2E7570B9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CD6642-BB2A-43C9-A78C-13A0EAAC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5D3DEB-33AD-4DAC-B5FE-445C68AF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518FE-5EEC-4AB9-A1AA-7073E664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FC64CB-23BA-405F-98BB-24EBE407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B2C5B1-3151-4691-AF97-5A6062EA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1ECA8-EAD8-4394-ADC0-3E9C3C01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A24A55-E2D8-49CA-A14A-62DC2E31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4638B1-48A3-4603-9D3B-011007A5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37C195-814D-4210-9457-46A1E0FB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6129D-5C26-4E3E-B40E-667F59FD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613-2447-48FB-9215-9688BB6E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053A-8AAE-471F-A822-85E4FB02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430035-6921-4430-AF15-373E1794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12C259-88BC-428E-9A20-05BEA0F3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42A01E-A415-43A2-BB7A-2E4623C4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D63076-D214-4F57-9CF0-26616AEA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0F84C7-5E56-4208-8CC9-AC6FE130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7D1972-E0F3-43A9-B776-C013BE23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F5F999-31DD-4800-9510-DBBC018E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48973C-86D1-448D-BE4F-B4DF496B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BB0097-5336-4CDB-B142-1A807DD0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43197B-87E1-42A7-AC75-41623283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5270-CCAD-475B-B223-32B3E979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7C9F69-8E29-44BA-A146-15A5BC56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70A28E-B21C-4BEC-A08A-CFF40A65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7CB518-120B-4E17-A77F-7999908B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0FBD75-51AD-4581-81E9-E90774DB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D87A9F-51D3-47C8-A764-D78320BB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A8EAC2-FEAF-455E-939B-C78B77DC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69BBA9-A543-4CFF-82A9-F1318733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EA73AE-A476-4ED4-9EE5-03B7ECCC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279B09-5F4B-4F13-92D4-90B9BCAA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D7CB2E-24D2-47EE-A752-C65BBE68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AD13-936A-4E3C-BA4F-47D2D2F6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630C69-8561-490D-A64A-54347E44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DEC43D-2D16-4042-B532-44212FE3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E63238-B15C-4006-98E4-3015AF90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D2AA97-CAE2-480F-9FDA-09F5516F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EF7402-8C45-4149-BB5D-8AEC88C8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E3D195-2DF8-46DF-9DE8-1B10033B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BE2B37-CB47-49FC-80A1-096BDFA4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D621DF-90ED-403B-9575-2C9F6D47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72DA08-1987-4E97-A759-0B6EDC56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8465D2-6E3E-4948-A4F1-16D2B20B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C273-FF30-4EE7-AC58-EEEC1A79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69393B-5C71-48C0-89E7-9B1246FF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789E07-061A-4643-B90D-E5CB5798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8BE8BA-89D0-4EA6-9D47-FE065BC3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CDCC9B-01E9-4C97-A8B7-F1157FD8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BC8860-1120-4A89-A2BD-46B1F874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1BCFE3-1F7A-46CF-A4E2-557581C8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DC38B1-8D0E-4DDA-B062-06FBED33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343DD1-C59A-4377-A0C7-25980218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18BA09-1B98-4A57-915A-83C65395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2AC13D-DB30-42C2-B3B9-B5DC6D65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5EA2-087C-48A0-8FDF-4DA6DDFE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5291B8-E982-4721-A966-07DB3C5A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DE10F4-30CA-4234-BC35-3D0B869C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C71404-2693-4BB5-A26A-BF0C1655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47D08B-95D6-478D-99FA-AF534B3E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7CEF33-7DAF-4007-8956-7BC1FAD7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E12B65-23AF-4E79-81D4-B58597E2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6716C6-0F81-402A-A166-66FF73CF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82CD32-8520-41DE-B199-2201D4F3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44055A-2C36-42F4-BC87-6918DEE1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014E16-19D1-4C7B-9912-6FE98BDC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78267-77A7-4D15-BC67-976582CC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5144CB-BE59-4AF8-B590-70C4910F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01894A-4E90-4328-9688-758F66A6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FCB169-9046-4952-ABA2-3F98999E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E92375-0B2D-4BEF-A2B5-F9EF9507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E7B31F-C6AE-4A01-AB93-687FE914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B20197-6ECB-4A06-8A82-DCAE9230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75166F-8C60-4D08-87D8-1B8AD0B4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ADE0EB-38B8-423A-A0F0-6E4CEBE3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A16B7B-01F2-48AA-BE1F-89FEAEE9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BAA918-2B14-449E-86DB-041CAAF0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C9A17-C0A0-4D2E-A11E-1131F04B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7B88DC-635B-48EF-8D9A-8F0BB997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52AB18-6036-45A5-BD1F-489983B5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A10827-6AAB-4BC8-9C86-63B8FB22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15CD37-BB1F-49A8-A350-08BE635D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8CBA8F-3D49-4BC1-B993-00DE3BE2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B8C531-8BF8-4CF2-88B2-F49A8864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2BD62D-50A4-4D49-B134-20538176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C98EA7-536C-4109-9DD4-B2EBE83B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E179B8-C86B-4F16-A555-941C295E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F23ECB-92AF-4DC9-97D9-FE980C4E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96953-F6A5-48F8-8EAF-00380A89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BFE8E4-6EC6-45F8-9867-159934CF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362C54-FD27-4D52-B04F-AC3855AD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346EE1-B963-46C8-BD4D-4F26A964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2FF95A-57BD-46C0-85FF-BC756291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514A04-5425-41E8-A5F1-961072C2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1620F0-D759-4460-8891-7FF37D73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92B061-82EE-4143-A7C1-0D8D40B0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437268-570D-4A2B-9F0B-2AC8DD95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CD418E-3D01-4B7F-9787-C24344FC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53BBF6-5B23-4240-A3CB-6DC8A751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EFAC4-635D-46C4-94F8-A1653B36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79D050-A257-4735-8433-4BDE101C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DE3BDB-F44B-4A2D-8607-51047168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E88097-8386-4225-8727-2ACF4088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18B7E0-52CD-487A-BE7E-16D167D6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F44496-E29C-4F38-ACB8-4E3DDC20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BD9B93-B75B-4768-8F51-4181D3AE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CE1E48-0953-45A2-9400-125A97BD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8C0A60-0457-4A2E-A67F-60C0E2BC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9DA470-661F-47DC-8E53-FF5928A3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EE6AE5-5468-488A-B15C-6040B2AC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297AC-564B-4383-8C58-15ECFE0A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DF5D84-0EA5-4DC2-A4D2-689217FE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C79107-2732-48C7-A981-163C8D54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67EA5F-AD24-4040-A51D-EFAF9542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FC9010-335A-4E8B-8C1A-A484A417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1900CD-D305-42B2-9A67-34AE6E38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446081-B442-431D-AC6F-154AC5F6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5DCCEC-3C01-4AFB-8199-36C6B76A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B75462-3DC3-477C-A1ED-E517B0BF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7EB8C2-6046-440D-8070-967542E1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18A91B-9D41-4B09-B980-9308C073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5E4A-CFA5-4E10-8A3F-3EB879B9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DB105-8790-4C2B-B8C2-318371F9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DFBFFA-4C18-43DE-A0D5-FA4B531F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2B6054-C71C-41DF-B031-24501EB8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B6F625-61DC-4B1D-B6B6-B9550620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FD7909-AE47-41CE-B901-AFC7D2E5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EAEA16-FDB9-4619-BE0E-326F8112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A1F933-FEC0-4664-84F1-5E3B478D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89FC89-0896-4D21-B6DB-CD82F277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A0A9E1-6EB5-47AF-80AB-BA2DE984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A8C70E-246C-44EA-990D-2F32198D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1EA91F-E974-44CE-B13A-AA7F7296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3022-0A75-4101-A23F-AF14E545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E948B8-6A3F-4F19-8E41-FBDD67E9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003244-A1B1-44D1-91C5-65A1CB10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4D5C0E-058C-47C0-9E50-A28A16FC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45D0B4-74A7-4913-8D28-D922D454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423401-1317-49DF-8DA3-15912DC5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E3E772-EB61-4BBC-8E7A-AC45A2B2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487701-3241-4623-A73A-262BE426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2EC8A1-986F-46EA-8CFD-BC1A8895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1AE41F-E1E7-48D8-B044-121E58D2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A93653-DB42-4744-A60A-FAA5154A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5C8F-BD49-41A8-A270-991C798D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A234FF-B807-4603-806C-6A80E838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75C23E-6598-4AEE-BA09-947A9C08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F388EC-96C7-4939-A566-8B286DB4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3112B1-5508-443D-BB8F-AA469FA5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F7CE41-4B06-4A30-B0F7-7F81C10A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1B19A7-30E1-4D07-8051-204994A3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D33E43-E626-4E16-85A7-1DDF2C2C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BFC682-1F55-4CFA-AFE2-46B24B6B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B6FB21-0A18-4812-967A-FD40A563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699419-4559-4F93-8CE7-AC6477DC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5CDEA-BEFA-4C44-B921-4AFD1FC4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211D91-5FA5-4D52-8F41-1B3525DB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569413-3435-4CF5-B2FB-E83141BA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48FFDF-A3A9-48DF-A18D-02F2B8B8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E0EAB8-16B6-46D1-B5F5-10BF192D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FFB60C-E24B-4D91-B03F-C260FCD1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7AAEF5-86A8-43BC-8E31-DEF61A38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77C769-8347-4138-886D-3D4E9AF7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9E3BEC-1501-4846-8B92-1875868E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200EFA2-97CE-4F34-B80F-D8BCBF91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91B111-FF87-4252-94A4-94A1E4BD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12936-C6A6-449C-8781-1DB1264B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D6E738-59DD-45BE-9134-3AD70260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3C0006-3FFD-41B0-9220-58C74FE1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08284F-5790-4B9E-B691-4A4338E8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154915-3099-4DD6-BC90-99C61913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C358F2-F76A-4C31-9765-4EA10694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B8620A-1EE5-4259-A147-9C0E063F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592081-37E7-4273-8A89-6B647DA6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AA2A04-F0A3-475A-A309-57BA4EFF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DA50C1-4CD1-4BA5-986D-C364CAD8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4C7FAC4-E2DB-4508-B8A9-F3F34649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7D725-D278-4D3D-98DF-8F5B06A0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3910E34-6E2E-4DED-866F-93F6C0F6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8B7D2C0-ED98-4FB9-A5E9-D0980AB6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1270BF5-4A91-4C86-AD88-97BD0127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3BAB5F7-0914-4901-A478-4B151A4F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E27F5B5-E38E-45DC-8734-1D4F7F1F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16FB314-19E0-4A51-9015-12E6263B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F5EF752-AC84-446F-BF3A-9D4F2A4E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F66943C-F451-4210-BC6F-68B63F7C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C631A41-3761-49A0-BFF9-F94CE27D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E966DE9-AC28-4012-96D6-4C26548E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70B52-EC95-4B17-ACD8-12786DCA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0C9A99F-9D7A-4C70-A80F-E0B50DB8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056A1F3-96F6-4AE4-AEF7-B3A0C9DD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8D7AF04-B60E-4BEF-BE2C-7C93A224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9EDDE36-02C8-4434-9A6B-9CF28CD1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74DCD53-5D1C-4007-8D7E-3B34CF21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4DCD289-988B-4DDB-A369-C7F0E89E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7D2C477-77E6-4A74-A609-F9B15617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A1930EC-FBD7-4B3A-85BF-912BE035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7D6EDD4-BFB7-4DF4-8469-76C30DDE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99451B1-D55B-4514-B136-18C48B5F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4E696-86D7-4010-9DB8-3D1203E4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36D84F2-F40C-472D-84C8-CE2F8A90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158D51B-F863-4BC8-9DC5-B46CED34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D4F5E6E-F660-4DBF-87BD-BCCF0185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0607C-B536-48ED-87BF-13ABAEBD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A22FF-4D19-47F0-A408-6BFBF645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8EB-963C-4784-BC5E-F9B00699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8F6B4-4FC3-41AF-B396-63DDE12D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47B71-2B38-4344-8F51-F97540D7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0BB37-E1B9-4642-8DDC-BDD0A041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10E5B-A954-490A-82C1-6327D358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A4921-546E-4B6E-BDFA-7FC1D738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7A4B1-F137-494D-8AA1-1A47D313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63272-37FC-4F58-8712-8AD7F891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C731A-A329-4759-871F-D3B456D0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F769C-A2D6-485A-90E1-8AEC8F49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009B2-2C3B-4686-AC35-B536FEDF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CE2-51AD-40A0-9765-F091A9E8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4E3D9-674F-4D16-A1ED-13A916A7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E9693-B570-46C3-B7B7-0921B511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EF753-DEA1-4BBB-B05D-28348568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28EF2-9BF6-4B5E-B01F-0445A42E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B4DF8-759B-4764-A0B7-183E2EFA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F85DA-1467-4AD0-9CCF-EDBE7017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BC68D-7F34-4B83-AF74-51818520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F49C1-A7D6-49EE-94A6-FBDCEC45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A55C8-1B9C-4943-B727-A6E07735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F5064-85EC-4A95-8B11-CE3A6188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EEC-FD18-44BE-AF4E-3F955663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4D83C-90BA-4461-A003-6E7E3A8C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A2F5C-9972-4534-9A4D-6A4ACC78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6F412-C315-4FAD-8A55-1EE0E1AE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1BAD0-B329-4124-9F32-D5A13A28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785AC-0535-4F3E-8A05-ADC981BA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3793C-0DD5-418E-88C7-EFF30F2C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8A79A-771E-4B3E-9002-F0A73066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776B5-CB9A-4173-865F-3C4304DD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D0179-8D42-4117-8B02-33006479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9566D-B9E4-4C3B-9F04-2D76B348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13C-4181-488B-9A08-1CA2187E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73776-418D-4E7F-B309-66FA7D27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532B4-1178-4D7F-9ED3-05450F7A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BA143-A9F1-4EF9-A6E1-73046777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46080-0B4D-4DBE-81D3-58B1C65C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F5671-7DE6-4A27-9610-C08BEBBB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D55F2-6FEF-401C-B603-A54B0D25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1589B-A8FD-41BF-9184-49A6D614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E5346-EB1D-444D-8C90-1DCC5CA6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880B5-BDAB-4F06-8F83-B1457F76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BBC2B-72A5-41DF-97F5-E958C090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EC9-2A4B-44B7-B0B8-28633B8D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1ED33-18E7-4D7F-819B-A4DED0C3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DF3A7-37CE-4E12-BE13-67A4EFF8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68DC5-08E3-4DA7-89E4-E4B6B574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72A54-48FE-49C5-9E1A-7C950381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79285-90F5-46CA-B7C4-B22FB891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62B46-DB46-4765-9BED-96F0B594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FB538-E9BE-41DA-B58A-5714713D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0046B-7A42-4B90-B9FE-8D9AAAFF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7440D-3498-40A8-8A9B-64598C0C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0ADB5-688A-4FEC-9A31-1D6C6289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AFB-ECF4-4AB1-ACB2-E3E68ECE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B3770-A311-4B26-A40B-BB9D4F25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40A6D-A500-4ADD-A035-6526CB89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33B80-54E1-4E4B-B7D5-86C28C65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51803-A907-4096-BB4A-CAD2B9BB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DAC6E-51E8-43FD-8595-B435B8F1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8BDFB-E3CD-4527-92AD-13E918A6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07227-1AE6-4C53-B8F9-EBF613E6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C57FF-8EB9-4AA6-8112-47BF0AEE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DF692-5FE8-462B-BE5A-6B6AD019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2F9ED-859A-41C9-A2E9-1DF60236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197B-4DF1-4EA6-B330-BF4372CC4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25AA-0479-4055-B907-B498BF59A3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D20D-8CDA-4B42-8C99-34B950D8CB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5DDF-B0A7-4043-92CF-305531FC91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A9BA-7A18-42E8-8650-6B152C33FF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A53B-BD1D-4BA9-A2FB-6A749A5E8C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86B2-19DB-4489-8A24-3AA485ADC8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5F4E-C981-4E78-8843-028FA6E891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F267-7C53-4B3F-A514-529C3032E1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92BE-A0B5-4C4E-B7AA-71B5582DC2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BE4F-691C-4147-99CB-7F92CA295D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59FB-49BF-4B60-AEA1-381583609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4D54-1445-434B-AF4A-C4BC0C2D3C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BCDC-3ED1-4A4E-A5F1-D92D97336E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527F-D5F0-4FD2-9D22-1773EBFEEB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2602-35F3-4E98-8CC9-A117508436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9ADF-FDB2-47F3-81CE-8030E56D2F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533E-A244-4F46-A0F2-AA3B34EA37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7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7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7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2471-C4B5-4CBA-9F6F-8598AEDEEF0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075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7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8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81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75AF-80BD-487F-AEEC-21832050AA9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 type="dt" idx="8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 type="ftr" idx="8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 type="sldNum" idx="8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B89A-D19F-4B34-849E-A8EBBB08A03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 type="dt" idx="8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 type="ftr" idx="86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 type="sldNum" idx="87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1AEE-0AFB-4224-A0C7-1BE8EDDB6AB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C790-584F-436F-93F0-F4157F3C6C5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8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sldNum" idx="8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ADCD-E22F-405C-AD13-7E9F746B50D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ftr" idx="9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 type="dt" idx="9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 type="sldNum" idx="9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C1FE-BC58-43E3-87A1-69780DF6C88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 type="ftr" idx="9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C1E5-6FB3-4A3A-8DA7-7B45E2F3E3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CB34-02DB-4D68-B722-28A9F62CDA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0401-A0D6-42BA-B358-036D4390E4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175D-C99C-434E-815B-12C866077E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F8B2-BF1B-4352-8EB5-E08D18F8F3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3890-6B5A-4C07-8867-16ADB140FE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0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ahUKEwix4MGt18zRAhUBshQKHSYED2cQjRwIBw&amp;url=http%3A%2F%2Fwww.hrvatski-fokus.hr%2Findex.php%2Fdrustvo%2F16874-aforizmi-hypokrat-stari-birokrat&amp;psig=AFQjCNFfH1rLQ9c7VzfeikKhTdtvLArx1Q&amp;ust=1484861873521901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0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rowallia New"/>
              </a:rPr>
              <a:t>ЗДРАВСТВЕНИ ИНФОРМАЦИОНИ СИСТЕМИ </a:t>
            </a:r>
            <a:br>
              <a:rPr sz="32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306" name="Picture 6" descr="C:\Users\Mirjana Petrovic\Desktop\images.jpg"/>
          <p:cNvPicPr/>
          <p:nvPr/>
        </p:nvPicPr>
        <p:blipFill>
          <a:blip r:embed="rId1"/>
          <a:stretch/>
        </p:blipFill>
        <p:spPr>
          <a:xfrm>
            <a:off x="4724280" y="3489480"/>
            <a:ext cx="3733920" cy="29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7" name="Picture 7" descr="C:\Users\Mirjana Petrovic\Desktop\ZK_zveza-potrosnikov.jpg"/>
          <p:cNvPicPr/>
          <p:nvPr/>
        </p:nvPicPr>
        <p:blipFill>
          <a:blip r:embed="rId2"/>
          <a:stretch/>
        </p:blipFill>
        <p:spPr>
          <a:xfrm>
            <a:off x="685800" y="3471840"/>
            <a:ext cx="3809880" cy="300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8" name="Picture 4" descr="Logotip Medicinski monohroamtski"/>
          <p:cNvPicPr/>
          <p:nvPr/>
        </p:nvPicPr>
        <p:blipFill>
          <a:blip r:embed="rId3"/>
          <a:stretch/>
        </p:blipFill>
        <p:spPr>
          <a:xfrm>
            <a:off x="3657600" y="1219320"/>
            <a:ext cx="1630440" cy="209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 документација у Републици Срб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457200" y="1828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упљање, чување и дистрибуција података у систему здравствене заштите Републике Србије уређени су закони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0" name="Picture 4" descr="C:\Users\Mirjana Petrovic\Desktop\176.jpg"/>
          <p:cNvPicPr/>
          <p:nvPr/>
        </p:nvPicPr>
        <p:blipFill>
          <a:blip r:embed="rId1"/>
          <a:stretch/>
        </p:blipFill>
        <p:spPr>
          <a:xfrm>
            <a:off x="3581280" y="2971800"/>
            <a:ext cx="512136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7"/>
          <p:cNvSpPr/>
          <p:nvPr/>
        </p:nvSpPr>
        <p:spPr>
          <a:xfrm>
            <a:off x="2590920" y="189000"/>
            <a:ext cx="6553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cc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ЗДРАВСТВЕНОЈ ЗАШТИ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„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и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,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. 107/05 , 72/09 - др. закон, 88/10 , 99/10 , 57/11 , 119/12 , 45/13 - др. закон, 93/14 , 96/15 , 106/15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8"/>
          <p:cNvSpPr/>
          <p:nvPr/>
        </p:nvSpPr>
        <p:spPr>
          <a:xfrm>
            <a:off x="934920" y="256428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ЗАКОН О  ЗДРАВСТВЕНОЈ ДОКУМЕНТАЦИЈИ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ЕВИДЕНЦИЈАМА У ОБЛАСТИ ЗДРАВ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"Сл. гласник РС", бр. 123/14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106/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9"/>
          <p:cNvSpPr/>
          <p:nvPr/>
        </p:nvSpPr>
        <p:spPr>
          <a:xfrm>
            <a:off x="250920" y="3789360"/>
            <a:ext cx="87138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ПРАВИЛНИ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обрасцима и садржају образаца за вођењe здравствене документације, евиденција, извештаја, регистара и електронског медицинског досије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"Сл. гласник РС", бр.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9/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9"/>
          <p:cNvSpPr/>
          <p:nvPr/>
        </p:nvSpPr>
        <p:spPr>
          <a:xfrm>
            <a:off x="2327400" y="5877000"/>
            <a:ext cx="51847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8920" bIns="88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ЈАВНОМ ЗДРАВЉ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"Сл. гласник РС", бр. 15/20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10"/>
          <p:cNvSpPr/>
          <p:nvPr/>
        </p:nvSpPr>
        <p:spPr>
          <a:xfrm>
            <a:off x="539640" y="5013360"/>
            <a:ext cx="842508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8920" bIns="88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ПРАВИМА ПАЦИЈЕН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"Сл. гласник РС", бр. 45/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11"/>
          <p:cNvSpPr/>
          <p:nvPr/>
        </p:nvSpPr>
        <p:spPr>
          <a:xfrm>
            <a:off x="2340000" y="1821960"/>
            <a:ext cx="68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ТАТИСТИЧКИМ ИСТРАЖ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"Сл. гласник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С", бр. 83/92, 53/93, 67/93, 48/94 и 101/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9" name="Picture 11" descr="C:\Users\Mirjana Petrovic\Desktop\120.jpg"/>
          <p:cNvPicPr/>
          <p:nvPr/>
        </p:nvPicPr>
        <p:blipFill>
          <a:blip r:embed="rId1"/>
          <a:stretch/>
        </p:blipFill>
        <p:spPr>
          <a:xfrm>
            <a:off x="228600" y="609480"/>
            <a:ext cx="2292480" cy="152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Ј ДОКУМЕНТАЦИЈИ И  Е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НЦИЈАМ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БЛАСТИ ЗДРАВСТВ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200"/>
            </a:br>
            <a:br>
              <a:rPr sz="2200"/>
            </a:b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ђује с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200"/>
            </a:br>
            <a:endParaRPr b="0" lang="en-US" sz="2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0" y="20574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документација и евиденције 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ласти здравст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и садржина здравствене документације и евиденциј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и поступак вођењ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овлашћена за вођење здравствене документације и унос податак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ови за достављање и обраду податак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располагања подацима из медицинске документације пацијената која се користи за обраду податак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ђивање квалитет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штите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увања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так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питања од значаја за вођење здравствене документације и евиденциј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 txBox="1"/>
          <p:nvPr/>
        </p:nvSpPr>
        <p:spPr>
          <a:xfrm>
            <a:off x="228600" y="603360"/>
            <a:ext cx="8734320" cy="62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установ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атна пракс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е социјалне заштит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и за извршење заводских санкциј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ултети здравствене струке који обављају одређене послове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делатности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правна лица која обављају одређене послове здравствене делатности у складу са законом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..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ни су да воде здравствену документацију и евиденцију и да у прописаним роковима достављају индивидуалне, збирне и  периодичне извештаје надлежном заводу, односно институту за јавно  здравље, као и другим организацијама на начин прописан посебним Законом,..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43" name="Picture 3" descr="C:\Users\Mirjana Petrovic\Desktop\5-3.jpg"/>
          <p:cNvPicPr/>
          <p:nvPr/>
        </p:nvPicPr>
        <p:blipFill>
          <a:blip r:embed="rId1"/>
          <a:stretch/>
        </p:blipFill>
        <p:spPr>
          <a:xfrm>
            <a:off x="6705720" y="457200"/>
            <a:ext cx="1600200" cy="16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ЗДРАВСТВЕНОЈ ЗАШТИТИ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228240" y="14475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рантована је тајност података из медицинске документације пацијената која се обрађује и доставља за индивидуалне, збирне и периодичне извештаје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установа, приватна пракса, као и друга правна лица дужна су да чувају медицинску документацију пацијената од неовлашћеног приступа, копирања и злоупотребе, независно од облика у коме су подаци из медицинске документације сачувани (папир, микрофилм, оптички и ласер дискови, магнетни медији и др), у складу са законом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ђење здравствене документације и унос података у здравствену документацију искључиво обављају овлашћена лица, у складу са законом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служи евиденција у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 здравствене заштите?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раћење здравственог стања пацијент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раћење и проучавање здравственог стања становништв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раћење извршавања обавеза свих субјеката у области здравствене заштите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раћење ресурса у области здравствене заштите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раћење и стално унапређење квалитета здравствене заштите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Финансирање здравствене заштит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ланирање и програмирање здравствене заштите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Праћење и оцењивање спровођења планова и програма здравствене заштите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Спровођење статистичких и научних истраживања; информисање јавности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Извршавање међународних обавеза у области здравства и  за развој система здравствене заштите и здравственог осигурања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 документ је сваки документ настао у здравственој установи, који садржи податке о здравственом стању пацијента, као и о начину пружања здравствене заштите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 свих писаних или на други начин приређених докумената (на електронском медију)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49" name="Picture 11" descr="ANd9GcT17j7RDTNzdI9n0rziNN2JjqivYTHZjAMPI7FY3KO_xHPF1MU-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5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0" name="Picture 4" descr="C:\Users\Mirjana Petrovic\Desktop\unnamed (4).jpg"/>
          <p:cNvPicPr/>
          <p:nvPr/>
        </p:nvPicPr>
        <p:blipFill>
          <a:blip r:embed="rId2"/>
          <a:stretch/>
        </p:blipFill>
        <p:spPr>
          <a:xfrm>
            <a:off x="6248520" y="5105520"/>
            <a:ext cx="2895480" cy="154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 txBox="1"/>
          <p:nvPr/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„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Информациони систем”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је свеобухватни скуп технолошке инфраструктуре (мрежне, софтверске и хардверске компоненте), организације, људи и поступака за прикупљање, смештање, обраду, чување, пренос, приказивање и коришћење података и информација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52" name="Picture 3" descr="C:\Users\Mirjana Petrovic\Desktop\medicinska-dokumentacija-big.jpg"/>
          <p:cNvPicPr/>
          <p:nvPr/>
        </p:nvPicPr>
        <p:blipFill>
          <a:blip r:embed="rId1"/>
          <a:stretch/>
        </p:blipFill>
        <p:spPr>
          <a:xfrm>
            <a:off x="5257800" y="3886200"/>
            <a:ext cx="3352680" cy="223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 ЗДРАВСТВЕНОЈ ЗАШТИТИ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0" y="1341360"/>
            <a:ext cx="91440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и здравствени информациони систем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 планирања и ефикасног управљања системом здравствене заштите, као и прикупљања и обраде података у вези са здравственим стањем становништва и функционисањем здравствене службе, односно прикупљања и обраде здравствених информација, организује се и развија интегрисани здравствени информациони систем у Републиц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 рада, развоја и организације интегрисаног здравственог информационог система, као и садржај здравствених информација доноси Влад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ДОКУМЕНТАЦИЈА И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ИДЕНЦИ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45684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документација и 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нциј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воде уписивањем података у основну здравствену документацију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моћна средства за вођење евиденциј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сновне здравствене документације и евиденција и помоћних средстава за вођење евиденција израђују  се  индивидуални и збирни извештај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генеришу из дневне и месечне евиденције података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57" name="Picture 2" descr="D:\Users\Mirjana Janicijevic\Desktop\zdravstvena-zastita-odrasli-800x250.jpg"/>
          <p:cNvPicPr/>
          <p:nvPr/>
        </p:nvPicPr>
        <p:blipFill>
          <a:blip r:embed="rId1"/>
          <a:stretch/>
        </p:blipFill>
        <p:spPr>
          <a:xfrm>
            <a:off x="4648320" y="5224320"/>
            <a:ext cx="4190760" cy="130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ат медицинске документациј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310" name="Picture 3" descr=""/>
          <p:cNvPicPr/>
          <p:nvPr/>
        </p:nvPicPr>
        <p:blipFill>
          <a:blip r:embed="rId1"/>
          <a:stretch/>
        </p:blipFill>
        <p:spPr>
          <a:xfrm>
            <a:off x="6781680" y="1676520"/>
            <a:ext cx="2095560" cy="2877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11" name="Picture 2" descr=""/>
          <p:cNvPicPr/>
          <p:nvPr/>
        </p:nvPicPr>
        <p:blipFill>
          <a:blip r:embed="rId2"/>
          <a:stretch/>
        </p:blipFill>
        <p:spPr>
          <a:xfrm>
            <a:off x="6705720" y="4648320"/>
            <a:ext cx="2095560" cy="198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2" name="Rectangle 3"/>
          <p:cNvSpPr/>
          <p:nvPr/>
        </p:nvSpPr>
        <p:spPr>
          <a:xfrm>
            <a:off x="0" y="1684440"/>
            <a:ext cx="693432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0 г. п.н.е. Месопотамија „колевка цивилизације“, писано клинастим писмом на глиненим плочицама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 800 глинених плоча посвећено  медици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лочици пронађеној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</a:t>
            </a:r>
            <a:r>
              <a:rPr b="0" lang="sr-R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Нипуру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јстарији писани медицински документ)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бележено неколико рецепата за лечење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 3000 г. п.н.е. староегипатска култура 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а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пируси Кахуански, Еберсов и Смитов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Picture 6" descr=""/>
          <p:cNvPicPr/>
          <p:nvPr/>
        </p:nvPicPr>
        <p:blipFill>
          <a:blip r:embed="rId3"/>
          <a:stretch/>
        </p:blipFill>
        <p:spPr>
          <a:xfrm>
            <a:off x="2514600" y="5105520"/>
            <a:ext cx="3429000" cy="149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447560" y="533520"/>
            <a:ext cx="647676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дивидуални извештај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380880" y="1523880"/>
            <a:ext cx="87631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ни извештај”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евиденција  личних и медицинских података о пацијенту  или појединачних података о ресурсима  здравственог система, о здравственој установи, приватној пракси и другим правним  лицим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sr-R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бирни извештај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ирни извештај”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евиденција збирних  података који могу да се односе на пацијенте,  ресурсе здравственог система, здравствене установе, приватну праксу и друга правна лиц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-380880" y="76212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ок </a:t>
            </a: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формација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61" name="AutoShape 32"/>
          <p:cNvSpPr/>
          <p:nvPr/>
        </p:nvSpPr>
        <p:spPr>
          <a:xfrm>
            <a:off x="6948360" y="3933720"/>
            <a:ext cx="358920" cy="287280"/>
          </a:xfrm>
          <a:prstGeom prst="rightArrow">
            <a:avLst>
              <a:gd name="adj1" fmla="val 50000"/>
              <a:gd name="adj2" fmla="val 312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AutoShape 5"/>
          <p:cNvSpPr/>
          <p:nvPr/>
        </p:nvSpPr>
        <p:spPr>
          <a:xfrm>
            <a:off x="7380360" y="1557360"/>
            <a:ext cx="2168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3" name="Group 34"/>
          <p:cNvGrpSpPr/>
          <p:nvPr/>
        </p:nvGrpSpPr>
        <p:grpSpPr>
          <a:xfrm>
            <a:off x="3657600" y="765000"/>
            <a:ext cx="5729040" cy="5430240"/>
            <a:chOff x="3657600" y="765000"/>
            <a:chExt cx="5729040" cy="5430240"/>
          </a:xfrm>
        </p:grpSpPr>
        <p:grpSp>
          <p:nvGrpSpPr>
            <p:cNvPr id="1364" name="Group 44"/>
            <p:cNvGrpSpPr/>
            <p:nvPr/>
          </p:nvGrpSpPr>
          <p:grpSpPr>
            <a:xfrm>
              <a:off x="6516720" y="1413000"/>
              <a:ext cx="2869920" cy="4782240"/>
              <a:chOff x="6516720" y="1413000"/>
              <a:chExt cx="2869920" cy="4782240"/>
            </a:xfrm>
          </p:grpSpPr>
          <p:pic>
            <p:nvPicPr>
              <p:cNvPr id="1365" name="Picture 34" descr="j0299125"/>
              <p:cNvPicPr/>
              <p:nvPr/>
            </p:nvPicPr>
            <p:blipFill>
              <a:blip r:embed="rId1"/>
              <a:stretch/>
            </p:blipFill>
            <p:spPr>
              <a:xfrm>
                <a:off x="7602840" y="1413000"/>
                <a:ext cx="1009080" cy="143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6" name="Rectangle 39"/>
              <p:cNvSpPr/>
              <p:nvPr/>
            </p:nvSpPr>
            <p:spPr>
              <a:xfrm>
                <a:off x="6516720" y="5796720"/>
                <a:ext cx="2869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Институт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за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јавно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здравље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РС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7" name="Group 47"/>
            <p:cNvGrpSpPr/>
            <p:nvPr/>
          </p:nvGrpSpPr>
          <p:grpSpPr>
            <a:xfrm>
              <a:off x="3657600" y="765000"/>
              <a:ext cx="3363480" cy="5040000"/>
              <a:chOff x="3657600" y="765000"/>
              <a:chExt cx="3363480" cy="5040000"/>
            </a:xfrm>
          </p:grpSpPr>
          <p:pic>
            <p:nvPicPr>
              <p:cNvPr id="1368" name="Picture 30" descr="j0205462"/>
              <p:cNvPicPr/>
              <p:nvPr/>
            </p:nvPicPr>
            <p:blipFill>
              <a:blip r:embed="rId2"/>
              <a:stretch/>
            </p:blipFill>
            <p:spPr>
              <a:xfrm>
                <a:off x="5252400" y="765000"/>
                <a:ext cx="1622520" cy="162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9" name="Rectangle 37"/>
              <p:cNvSpPr/>
              <p:nvPr/>
            </p:nvSpPr>
            <p:spPr>
              <a:xfrm>
                <a:off x="3657600" y="5398200"/>
                <a:ext cx="3363480" cy="40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Регионални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Завод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Институт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за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јавно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sr-Latn-CS" sz="2200" spc="-1" strike="noStrike">
                    <a:solidFill>
                      <a:srgbClr val="000000"/>
                    </a:solidFill>
                    <a:latin typeface="Times New Roman"/>
                  </a:rPr>
                  <a:t>здравље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0" name="Group 32"/>
          <p:cNvGrpSpPr/>
          <p:nvPr/>
        </p:nvGrpSpPr>
        <p:grpSpPr>
          <a:xfrm>
            <a:off x="-228600" y="1066680"/>
            <a:ext cx="7184880" cy="4564080"/>
            <a:chOff x="-228600" y="1066680"/>
            <a:chExt cx="7184880" cy="4564080"/>
          </a:xfrm>
        </p:grpSpPr>
        <p:sp>
          <p:nvSpPr>
            <p:cNvPr id="1371" name="Rectangle 7"/>
            <p:cNvSpPr/>
            <p:nvPr/>
          </p:nvSpPr>
          <p:spPr>
            <a:xfrm>
              <a:off x="152280" y="2867040"/>
              <a:ext cx="2050920" cy="180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ЗДРАВСТВЕНА ДОКУМЕНТАЦИЈА И ЕВИДЕНЦИЈ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3399"/>
                </a:buClr>
                <a:buSzPct val="65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AutoShape 8"/>
            <p:cNvSpPr/>
            <p:nvPr/>
          </p:nvSpPr>
          <p:spPr>
            <a:xfrm>
              <a:off x="2276280" y="3298680"/>
              <a:ext cx="917640" cy="504720"/>
            </a:xfrm>
            <a:custGeom>
              <a:avLst/>
              <a:gdLst>
                <a:gd name="textAreaLeft" fmla="*/ 142920 w 917640"/>
                <a:gd name="textAreaRight" fmla="*/ 803520 w 91764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3" name="Picture 28" descr="j0235319"/>
            <p:cNvPicPr/>
            <p:nvPr/>
          </p:nvPicPr>
          <p:blipFill>
            <a:blip r:embed="rId3"/>
            <a:stretch/>
          </p:blipFill>
          <p:spPr>
            <a:xfrm>
              <a:off x="403200" y="1066680"/>
              <a:ext cx="1511280" cy="14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4" name="Rectangle 36"/>
            <p:cNvSpPr/>
            <p:nvPr/>
          </p:nvSpPr>
          <p:spPr>
            <a:xfrm>
              <a:off x="-228600" y="5270400"/>
              <a:ext cx="2663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Здравствене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установ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AutoShape 9"/>
            <p:cNvSpPr/>
            <p:nvPr/>
          </p:nvSpPr>
          <p:spPr>
            <a:xfrm>
              <a:off x="3571920" y="3227400"/>
              <a:ext cx="1873080" cy="595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3399"/>
                  </a:solidFill>
                  <a:latin typeface="Times New Roman"/>
                </a:rPr>
                <a:t>Индивидуал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AutoShape 10"/>
            <p:cNvSpPr/>
            <p:nvPr/>
          </p:nvSpPr>
          <p:spPr>
            <a:xfrm>
              <a:off x="3546360" y="3801960"/>
              <a:ext cx="1585800" cy="647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3399"/>
                  </a:solidFill>
                  <a:latin typeface="Times New Roman"/>
                </a:rPr>
                <a:t>Збирни периодич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1"/>
            <p:cNvSpPr/>
            <p:nvPr/>
          </p:nvSpPr>
          <p:spPr>
            <a:xfrm>
              <a:off x="3211560" y="2722320"/>
              <a:ext cx="39816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З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Ш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Ј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500" spc="-1" strike="noStrike">
                  <a:solidFill>
                    <a:srgbClr val="003399"/>
                  </a:solidFill>
                  <a:latin typeface="Times New Roman"/>
                </a:rPr>
                <a:t>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8" name="Picture 33" descr="j0195384"/>
            <p:cNvPicPr/>
            <p:nvPr/>
          </p:nvPicPr>
          <p:blipFill>
            <a:blip r:embed="rId4"/>
            <a:stretch/>
          </p:blipFill>
          <p:spPr>
            <a:xfrm>
              <a:off x="5803920" y="3370320"/>
              <a:ext cx="115236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AutoShape 49"/>
            <p:cNvSpPr/>
            <p:nvPr/>
          </p:nvSpPr>
          <p:spPr>
            <a:xfrm>
              <a:off x="5155920" y="4017960"/>
              <a:ext cx="576360" cy="288720"/>
            </a:xfrm>
            <a:prstGeom prst="rightArrow">
              <a:avLst>
                <a:gd name="adj1" fmla="val 50000"/>
                <a:gd name="adj2" fmla="val 499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0" name="Group 33"/>
          <p:cNvGrpSpPr/>
          <p:nvPr/>
        </p:nvGrpSpPr>
        <p:grpSpPr>
          <a:xfrm>
            <a:off x="7315200" y="3441600"/>
            <a:ext cx="2057400" cy="3416400"/>
            <a:chOff x="7315200" y="3441600"/>
            <a:chExt cx="2057400" cy="3416400"/>
          </a:xfrm>
        </p:grpSpPr>
        <p:sp>
          <p:nvSpPr>
            <p:cNvPr id="1381" name="AutoShape 35"/>
            <p:cNvSpPr/>
            <p:nvPr/>
          </p:nvSpPr>
          <p:spPr>
            <a:xfrm>
              <a:off x="7315200" y="3441600"/>
              <a:ext cx="1744560" cy="166680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Обра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убликовањ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2" name="Picture 31" descr="logo"/>
            <p:cNvPicPr/>
            <p:nvPr/>
          </p:nvPicPr>
          <p:blipFill>
            <a:blip r:embed="rId5"/>
            <a:stretch/>
          </p:blipFill>
          <p:spPr>
            <a:xfrm>
              <a:off x="8832960" y="6318360"/>
              <a:ext cx="53964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rowallia New"/>
              </a:rPr>
              <a:t>ДОКУМЕНТАЦИЈА И ЕВИДЕНЦИЈА, ИЗВЕШТАВАЊЕ У ОБЛАСТИ ПРИМАРНЕ ЗДРАВСТВЕНЕ ЗАШТИТЕ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384" name="Picture 5" descr="C:\Users\Mirjana Petrovic\Desktop\unnamed (1).jpg"/>
          <p:cNvPicPr/>
          <p:nvPr/>
        </p:nvPicPr>
        <p:blipFill>
          <a:blip r:embed="rId1"/>
          <a:stretch/>
        </p:blipFill>
        <p:spPr>
          <a:xfrm>
            <a:off x="1828800" y="3505320"/>
            <a:ext cx="5477040" cy="295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1386" name="Group 33"/>
          <p:cNvGrpSpPr/>
          <p:nvPr/>
        </p:nvGrpSpPr>
        <p:grpSpPr>
          <a:xfrm>
            <a:off x="6324480" y="1523880"/>
            <a:ext cx="1094040" cy="4680000"/>
            <a:chOff x="6324480" y="1523880"/>
            <a:chExt cx="1094040" cy="4680000"/>
          </a:xfrm>
        </p:grpSpPr>
        <p:sp>
          <p:nvSpPr>
            <p:cNvPr id="1387" name="Rectangle 24"/>
            <p:cNvSpPr/>
            <p:nvPr/>
          </p:nvSpPr>
          <p:spPr>
            <a:xfrm>
              <a:off x="6324480" y="1523880"/>
              <a:ext cx="1094040" cy="4680000"/>
            </a:xfrm>
            <a:prstGeom prst="rect">
              <a:avLst/>
            </a:prstGeom>
            <a:noFill/>
            <a:ln w="9360">
              <a:solidFill>
                <a:srgbClr val="9b2d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WordArt 26"/>
            <p:cNvSpPr txBox="1"/>
            <p:nvPr/>
          </p:nvSpPr>
          <p:spPr>
            <a:xfrm rot="16200000">
              <a:off x="5578920" y="3504960"/>
              <a:ext cx="2793960" cy="61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00"/>
                  </a:solidFill>
                  <a:latin typeface="Times New Roman"/>
                </a:rPr>
                <a:t>ИЗВЕШТАЈИ</a:t>
              </a:r>
              <a:endPara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389" name="Group 35"/>
          <p:cNvGrpSpPr/>
          <p:nvPr/>
        </p:nvGrpSpPr>
        <p:grpSpPr>
          <a:xfrm>
            <a:off x="990720" y="4419720"/>
            <a:ext cx="5479560" cy="1154160"/>
            <a:chOff x="990720" y="4419720"/>
            <a:chExt cx="5479560" cy="1154160"/>
          </a:xfrm>
        </p:grpSpPr>
        <p:sp>
          <p:nvSpPr>
            <p:cNvPr id="1390" name="Rectangle 21"/>
            <p:cNvSpPr/>
            <p:nvPr/>
          </p:nvSpPr>
          <p:spPr>
            <a:xfrm>
              <a:off x="990720" y="4419720"/>
              <a:ext cx="4419360" cy="1154160"/>
            </a:xfrm>
            <a:prstGeom prst="rect">
              <a:avLst/>
            </a:prstGeom>
            <a:noFill/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ПОМОЋНА СРЕДСТА З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ВОЂЕЊЕ ЕВИДЕНЦИЈ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Line 28"/>
            <p:cNvSpPr/>
            <p:nvPr/>
          </p:nvSpPr>
          <p:spPr>
            <a:xfrm flipV="1">
              <a:off x="4983840" y="4624200"/>
              <a:ext cx="1486440" cy="28764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2" name="Group 34"/>
          <p:cNvGrpSpPr/>
          <p:nvPr/>
        </p:nvGrpSpPr>
        <p:grpSpPr>
          <a:xfrm>
            <a:off x="1066680" y="2057400"/>
            <a:ext cx="5492520" cy="1171440"/>
            <a:chOff x="1066680" y="2057400"/>
            <a:chExt cx="5492520" cy="1171440"/>
          </a:xfrm>
        </p:grpSpPr>
        <p:sp>
          <p:nvSpPr>
            <p:cNvPr id="1393" name="Rectangle 20"/>
            <p:cNvSpPr/>
            <p:nvPr/>
          </p:nvSpPr>
          <p:spPr>
            <a:xfrm>
              <a:off x="1066680" y="2057400"/>
              <a:ext cx="4267800" cy="1171440"/>
            </a:xfrm>
            <a:prstGeom prst="rect">
              <a:avLst/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ОСНОВНА МЕДИЦИНС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ДОКУМЕНТАЦ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Line 27"/>
            <p:cNvSpPr/>
            <p:nvPr/>
          </p:nvSpPr>
          <p:spPr>
            <a:xfrm>
              <a:off x="5028840" y="2361960"/>
              <a:ext cx="1530360" cy="792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5"/>
          <p:cNvSpPr/>
          <p:nvPr/>
        </p:nvSpPr>
        <p:spPr>
          <a:xfrm>
            <a:off x="324000" y="1449360"/>
            <a:ext cx="85914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c00000"/>
                </a:solidFill>
                <a:uFillTx/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</a:rPr>
              <a:t>ОСНОВНА МЕДИЦИНСКА ДОКУМЕН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дравствени кар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он обавезне имуниз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то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њига евиден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09040" cy="291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700"/>
            </a:b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397" name="Picture 4" descr=""/>
          <p:cNvPicPr/>
          <p:nvPr/>
        </p:nvPicPr>
        <p:blipFill>
          <a:blip r:embed="rId1"/>
          <a:stretch/>
        </p:blipFill>
        <p:spPr>
          <a:xfrm>
            <a:off x="5486400" y="3352680"/>
            <a:ext cx="3429000" cy="2332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5"/>
          <p:cNvSpPr/>
          <p:nvPr/>
        </p:nvSpPr>
        <p:spPr>
          <a:xfrm>
            <a:off x="304920" y="1877400"/>
            <a:ext cx="8616960" cy="42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 u="sng">
                <a:solidFill>
                  <a:srgbClr val="c00000"/>
                </a:solidFill>
                <a:uFillTx/>
                <a:latin typeface="Times New Roman"/>
              </a:rPr>
              <a:t>Здравствени картон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сновни медицински документ који се во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изабраног лекара по областима здравствене заштите, за сваког пацијента коме се пружа здравствена заштита, осим за пролазне пацијен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и картон прати сваког пацијента током целог жив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ачност податка који се налазе у здравственом картону одговаран је изабрани лекар, односно  лекар специјалиста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га је изабрани лекар пренео овлашћење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8013960" cy="1054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30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5"/>
          <p:cNvSpPr/>
          <p:nvPr/>
        </p:nvSpPr>
        <p:spPr>
          <a:xfrm>
            <a:off x="0" y="775800"/>
            <a:ext cx="914400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7f7f7f"/>
                </a:solidFill>
                <a:uFillTx/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7f7f7f"/>
                </a:solidFill>
                <a:latin typeface="Times New Roman"/>
              </a:rPr>
              <a:t>    </a:t>
            </a:r>
            <a:r>
              <a:rPr b="1" lang="sr-RS" sz="28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7f7f7f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СНОВНА МЕДИЦИНСКА ДОКУМЕН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дравствени картон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 води</a:t>
            </a: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областима здравствене зашт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опште медицине и медицине рад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здравствене заштите же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здравствене заштите предшколске дец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здравствене заштите школске деце и омлад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пнеумофтизиолошке заштит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поливалентне патронаже (Здравствени картон породице и патронажни лис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Област стоматолошке здравствене зашти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524720" cy="1065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30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5"/>
          <p:cNvSpPr/>
          <p:nvPr/>
        </p:nvSpPr>
        <p:spPr>
          <a:xfrm>
            <a:off x="228600" y="574200"/>
            <a:ext cx="891540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7f7f7f"/>
                </a:solidFill>
                <a:uFillTx/>
                <a:latin typeface="Times New Roman"/>
              </a:rPr>
              <a:t>        </a:t>
            </a:r>
            <a:r>
              <a:rPr b="1" lang="sr-Latn-CS" sz="2800" spc="-1" strike="noStrike">
                <a:solidFill>
                  <a:srgbClr val="7f7f7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ОСНОВНА МЕДИЦИНСКА ДОКУМЕН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он обавезне имунизације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 се за децу која се обавезно вакцинишу, сагласно прописима о заштити становништва од заразних болести, као и програму обавезних имунизација становништва против заразних болести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н се отвара приликом давања прве вакцине дете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н прати дете до 18. године живота, односно до потпуног спровођења програма обавезних имунизација становништва против заразних бол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ачност податка који се налазе у картону имунизације одговаран је надлежни здравствени рад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901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ПРИМАРНА ЗДРАВСТВЕНА</a:t>
            </a:r>
            <a:r>
              <a:rPr b="1" lang="sr-R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ЗАШТИТА</a:t>
            </a:r>
            <a:br>
              <a:rPr sz="2700"/>
            </a:b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2"/>
          <p:cNvSpPr/>
          <p:nvPr/>
        </p:nvSpPr>
        <p:spPr>
          <a:xfrm>
            <a:off x="0" y="566640"/>
            <a:ext cx="914400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 u="sng">
                <a:solidFill>
                  <a:srgbClr val="d34817"/>
                </a:solidFill>
                <a:uFillTx/>
                <a:latin typeface="Times New Roman"/>
              </a:rPr>
              <a:t>ОСНОВНА МЕДИЦИНСКА ДОКУМЕНТАЦИЈ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то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Води се у здр. установама, приватној пракси и другом правном лицу при пружању здравствених услуга и предузимању медицинских мера када се за пацијента не отвара здравствени картон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За пролазне пације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За интревен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У специј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листичко-консултативним служб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Хитне медицинске помоћ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У дијагностичким службама (лабораторија, рентген,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За здравствену нег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За кућне посете здравствених рад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При обављању здравствено васпитног ра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У случају прегледа лица ради издавања лекарских уверењ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</a:rPr>
              <a:t>За регистровање нежељених реакција на лекове и медицинска сре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</a:rPr>
              <a:t>За скринин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75528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500"/>
            </a:b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2"/>
          <p:cNvSpPr/>
          <p:nvPr/>
        </p:nvSpPr>
        <p:spPr>
          <a:xfrm>
            <a:off x="228600" y="929880"/>
            <a:ext cx="8915400" cy="55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СНОВНА МЕДИЦИНСКА ДОКУМ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њиге евиденциј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приликом утврђивања одређених болести или стања, као и пружања здравствених услуга и воде с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вези 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разних бол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болести већег јавно -здравственог знач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 стерилиз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љеним догађај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њи на злостављање и занемаривање де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њи на злостављање ж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њи на злостављање и занемаривање  стар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ама лица која су лишена слободе у складу са зако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931160" cy="99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ат медицинске документациј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250560" y="1828440"/>
            <a:ext cx="8512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у познату медицинску документацију  развио је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крат у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у п.н.е., циљеви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цинска  документација треба тачно да рефлектује  ток болести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е на могуће узроке болести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 папирне медицинске документације  кретао се паралелно  с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ојем медицинске науке и образовања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вештају о медицинском  образовању из 1910.  године,  први  пут су формално представљени  функција  и садржаји медицинске документације, и лекари су охрабривани да чувају податке о пацијенту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17" name="Picture 7" descr="Резултат слика за hipokra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18360" y="225360"/>
            <a:ext cx="171756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752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МОЋНА СРЕДСТВА ЗА ВОЂЕЊЕ ЕВИДЕНЦ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ументи који се користе да би се олакшало добијањ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така о протоку пацијената и сачињавали извештаји!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ар картотек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а евиденција о посетама и рад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ћа евиденција о утврђеним обољењима и стањ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иденција заказивања прегледа, дијагностичких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и других медицинских мера и поступак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2"/>
          <p:cNvSpPr/>
          <p:nvPr/>
        </p:nvSpPr>
        <p:spPr>
          <a:xfrm>
            <a:off x="152280" y="1765080"/>
            <a:ext cx="899172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ff0000"/>
                </a:solidFill>
                <a:uFillTx/>
                <a:latin typeface="Times New Roman"/>
              </a:rPr>
              <a:t>ПОМОЋНА СРЕДСТВА ЗА ВОЂЕЊЕ ЕВИДЕНЦИЈ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гистар картоте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оди се као азбучни регистар  (азбучним редом по презимену и имену, према броју здравственог карто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установа која води здравствене карт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931160" cy="807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5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12" name="Picture 4" descr="D:\Users\Mirjana Janicijevic\Desktop\3364042_2019021903020_5c6b634eb789684ea0003910jpeg_ls.jpg"/>
          <p:cNvPicPr/>
          <p:nvPr/>
        </p:nvPicPr>
        <p:blipFill>
          <a:blip r:embed="rId1"/>
          <a:stretch/>
        </p:blipFill>
        <p:spPr>
          <a:xfrm>
            <a:off x="6095880" y="4800600"/>
            <a:ext cx="2743200" cy="182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ПРИМАРНА ЗДРАВСТВЕНА ЗАШТИТА</a:t>
            </a:r>
            <a:br>
              <a:rPr sz="2400"/>
            </a:b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МОЋНА СРЕДСТВА ЗА ВОЂЕЊЕ ЕВИДЕНЦИЈЕ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0" y="2438280"/>
            <a:ext cx="91440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невна евиденција о посетама и раду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сетама и раду и служи за евидентирање свих посета остварених у једном дану (прве и поновне), а на основу којих се сачињавају месечни, квартални и годишњи збирни извештаји, и води се у установама које пружају ванболничку и специјалистичко-консултативну здравствену заштиту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075520" cy="1224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МОЋНА СРЕДСТВА ЗА ВОЂЕЊЕ ЕВИДЕНЦИЈЕ</a:t>
            </a:r>
            <a:br>
              <a:rPr sz="3600"/>
            </a:br>
            <a:br>
              <a:rPr sz="36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0" y="17524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кућа евиденција о утврђеним обољењима и стањим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 се о утврђеним обољењима и стањима и служи за евидентирање свих завршних дијагноза постављених у једном дану (епизода лечења), а на основу којих се сачињавају месечни, квартални и годишњи збирни извештаји и води се у установама које пружају ванболничку и специјалистичко-консултативну здравствену заштиту.</a:t>
            </a:r>
            <a:br>
              <a:rPr sz="2600"/>
            </a:b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17" name="Picture 2" descr="D:\Users\Mirjana Janicijevic\Desktop\5844489_pixjpg.jpg"/>
          <p:cNvPicPr/>
          <p:nvPr/>
        </p:nvPicPr>
        <p:blipFill>
          <a:blip r:embed="rId1"/>
          <a:stretch/>
        </p:blipFill>
        <p:spPr>
          <a:xfrm>
            <a:off x="6019920" y="4419720"/>
            <a:ext cx="285732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8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304560" y="14479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виденција заказивања прегледа, дијагностичких процедура и других медицинских мера и поступак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и се за здравствене услуге за које не постоје услови да се пруже одмах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20" name="Picture 5" descr="C:\Users\Mirjana Petrovic\Desktop\zdravstvena-zastita-u-domovima-za-stare-542bd.jpg"/>
          <p:cNvPicPr/>
          <p:nvPr/>
        </p:nvPicPr>
        <p:blipFill>
          <a:blip r:embed="rId1"/>
          <a:stretch/>
        </p:blipFill>
        <p:spPr>
          <a:xfrm>
            <a:off x="3927600" y="3429000"/>
            <a:ext cx="4759200" cy="316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7931160" cy="706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ШТАЈИ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228600" y="19051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установе, приватна пракса и друга правна лица дужна су да на основу здравствене документације и евиденција коју воде, сачине и доставе прописане индивидуалне и збирне извештаје надлежном заводу, односно институту за јавно здравље и организацији здравственог осигурања у роковима утврђеним законом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ачност података у извештајима одговоран је надлежни здравствени радник, односно здравствени сарадник и друго овлашћено лице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24" name="Diagram 1" descr=""/>
          <p:cNvPicPr/>
          <p:nvPr/>
        </p:nvPicPr>
        <p:blipFill>
          <a:blip r:embed="rId1"/>
          <a:stretch/>
        </p:blipFill>
        <p:spPr>
          <a:xfrm>
            <a:off x="152280" y="1407960"/>
            <a:ext cx="85899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35344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Извештаји</a:t>
            </a:r>
            <a:r>
              <a:rPr b="1" lang="sr-Latn-CS" sz="2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индивидуални</a:t>
            </a:r>
            <a:r>
              <a:rPr b="1" lang="sr-Latn-C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6" name=""/>
          <p:cNvSpPr txBox="1"/>
          <p:nvPr/>
        </p:nvSpPr>
        <p:spPr>
          <a:xfrm>
            <a:off x="250560" y="106668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ни извештај, пријава, пријава промене и одјава сачињава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малигних тумор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шећерне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ХБ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хроничних психоз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акутног коронарног синдром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болести зависно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цереброваскуларних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са инвалидитетом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ретких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едама и трауматизму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која су претрпела повреду на раду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професионалних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и са сметњама у развоју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рлим особам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заразних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умрлим од заразних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ТБЦ-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Извештаји</a:t>
            </a:r>
            <a:r>
              <a:rPr b="1" lang="sr-Latn-CS" sz="22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индивидуални</a:t>
            </a:r>
            <a:r>
              <a:rPr b="1" lang="sr-Latn-C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250560" y="182844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ни извештај, пријава, пријава промене и одјава сачињава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има оболелим од ХИВ/АИДС-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њи на занемаривање и злостављање деце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њи на злостављање жен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демији заразне болест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вакциналним комликацијам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има пружања здравствених услуг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им радницима, здравственим сарадницима и осталим запосленим (пријава, пријава промене, одјава)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ми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о-комуникационим технологијам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 обољењима и стањима ако се утврди да су од значаја за здравље становништв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ПРИМАРНА ЗДРАВСТВЕНА ЗАШТИТА</a:t>
            </a:r>
            <a:br>
              <a:rPr sz="2500"/>
            </a:br>
            <a:br>
              <a:rPr sz="25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Збирни извештаји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457200" y="2133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штај о посетама и раду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штај о утврђеним обољењима и стањим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штај о организационој структури, кадровима опреми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љи квалитета здравствене заштит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/>
          <p:cNvSpPr txBox="1"/>
          <p:nvPr/>
        </p:nvSpPr>
        <p:spPr>
          <a:xfrm>
            <a:off x="22824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Документ је сваки материјални медиј који је носилац информација. Он је сведочанство неких чи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њ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еница, догађаја, предмета, појава или других облика људске делатности из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р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ажено у писму, графици, цртежу, слици, звучним записима, или у неком другом облику на одговарајућем материјалу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Вођење медицинске документације је законска обавеза свих здравствених радника јер се на тај начин обезбеђују  докази о предузетим активностима на лечењу пацијената, као и правна сигурност како корисника тако и даваоца здравствених услуга, да је за унапређење здравља пацијената предузето све што је потребно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и лица оболелих од болести и стања већег јавноздравственог значаја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и, односно институти за јавно здравље дужни су да воде регистре лица оболелих од болести и стања од већег јавно-здравственог значаја (на основу индивидуалних извештаја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ар се води за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лица оболела од малигних тумора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лица оболела од шећерне болести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лица оболела од хроничне бубрежне инсуфицијенције (укључујући и податке о дијализи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лица оболела од хроничне психозе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лица оболела од акутног коронарног синдрома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лица оболела од болести зависности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лица оболела од цереброваскуларне болести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лица са инвалидитетом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лица оболела од ретких болести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лица са повредама и трауматизмом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) лица која су претрпела повреду на раду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) лица која су оболела од професионалне болести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) децу са сметњом у развоју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) лица код којих је извршена трансплантација (органа, ткива, ћелија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) лица оболела од туберкулозе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) лица оболела од ХИВ/АИДС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) лица у програму биомедицински потпомогнуте оплодње - БМПО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) лица оболела од друге болести ако се утврди да су од значаја за здравље становништва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ЉАЊЕ ИЗВЕШТАЈА</a:t>
            </a:r>
            <a:endParaRPr b="0" lang="en-US" sz="2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228600" y="19047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установе, приватна пракса и друга правна лица дужни су да индивидуалне извештаје достављају надлежном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у/институту за јавно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 најкасније до десетог у месецу за претходни месец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штај о оболелим од заразних болести 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ставља се одмах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евидентирању болести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исане збирне извештаје  достављају квартално надлежном заводу, односно институту за јавно здравље, најкасније до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у месецу за претходни квартал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35" name="Picture 2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438280" cy="18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-6858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ЉАЊЕ ИЗВЕШТАЈА</a:t>
            </a:r>
            <a:endParaRPr b="0" lang="en-US" sz="2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228240" y="3428640"/>
            <a:ext cx="80010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Институт за јавно здравље Србије Др Милан Јовановић Батут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 представља највишу инстанцу којој 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се прослеђују извештаји о раду из свих здравствених установа са територије Републике </a:t>
            </a: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438" name="Picture 3" descr=""/>
          <p:cNvPicPr/>
          <p:nvPr/>
        </p:nvPicPr>
        <p:blipFill>
          <a:blip r:embed="rId1"/>
          <a:stretch/>
        </p:blipFill>
        <p:spPr>
          <a:xfrm>
            <a:off x="6816600" y="152280"/>
            <a:ext cx="2327400" cy="152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9" name="Picture 5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8132760" cy="1357200"/>
          </a:xfrm>
          <a:prstGeom prst="rect">
            <a:avLst/>
          </a:prstGeom>
          <a:ln w="0">
            <a:noFill/>
          </a:ln>
        </p:spPr>
      </p:pic>
      <p:pic>
        <p:nvPicPr>
          <p:cNvPr id="1440" name="Picture 6" descr="C:\Users\Mirjana Petrovic\Desktop\depositphotos_203665714-stock-video-doctors-hands-writing-on-medical.jpg"/>
          <p:cNvPicPr/>
          <p:nvPr/>
        </p:nvPicPr>
        <p:blipFill>
          <a:blip r:embed="rId3"/>
          <a:stretch/>
        </p:blipFill>
        <p:spPr>
          <a:xfrm>
            <a:off x="5775480" y="4800600"/>
            <a:ext cx="3368520" cy="175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 txBox="1"/>
          <p:nvPr/>
        </p:nvSpPr>
        <p:spPr>
          <a:xfrm>
            <a:off x="228240" y="17521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 за јавно здравље основан за територију Републике Србије обједињује податке из индивидуалних и збирних извештаја које достављају заводи, односно институти за јавно здравље и формира одговарајуће 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 података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кладу са законом и прописима донетим за спровођење овог закон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д за јавно здравље основан за територију Републике Србије дужан је да обрађене збирне извештаје достави министарству надлежном за послове здравља и другим надлежним органима, организацијама и установама за претходну годину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ђене збирне податке према прописаној методологији завод за јавно здравље основан за територију Републике Србије, дужан је да стави на увид јавности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ЉАЊЕ ИЗВЕШТАЈА</a:t>
            </a:r>
            <a:endParaRPr b="0" lang="en-US" sz="2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43" name="Picture 3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905120" cy="124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"/>
          <p:cNvSpPr txBox="1"/>
          <p:nvPr/>
        </p:nvSpPr>
        <p:spPr>
          <a:xfrm>
            <a:off x="228240" y="637920"/>
            <a:ext cx="8915400" cy="62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стему здравствене заштите користе се и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и обрасци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цепт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пут за специјалистичко-консултативни преглед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пут за лабораторијски и други дијагностички преглед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интерни упут (за ампулирану терапију, превијање, кућно лечење, поливалентну патронажну службу, саветовалишта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упут за стационарно лечење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лабораторијски налаз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упут за лекарску комисију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упут за прописивање медицинско-техничког помагала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стему здравствене заштите користе се 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и обрасци:</a:t>
            </a:r>
            <a:br>
              <a:rPr sz="25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456840" y="2819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налаз и мишљење здравственог радника или здравственог сарадника односно лекарске комисиј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лекарско уверењ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) извештај о привременој спречености за рад и потврд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) санитарна књижиц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) здравствена исправ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 txBox="1"/>
          <p:nvPr/>
        </p:nvSpPr>
        <p:spPr>
          <a:xfrm>
            <a:off x="380880" y="9140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равствена установа, приватна пракса и друго правно лице дужни су да чувају здравствену документацију и евиденције у роковима утврђеним законом, као и прописима којима се уређује архивска грађа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8" name="Rectangle 4"/>
          <p:cNvSpPr/>
          <p:nvPr/>
        </p:nvSpPr>
        <p:spPr>
          <a:xfrm>
            <a:off x="457200" y="2971800"/>
            <a:ext cx="8229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равствена установа, приватна пракса и друго правно лице дужни су да по престанку обављања здравствене делатности, односно брисања из регистра надлежног органа, предају на чување здравствену документацију и евиденције надлежном архиву у складу са законом којим се уређује архивска грађ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9" name="Picture 4" descr="C:\Users\Mirjana Petrovic\Desktop\unnamed (2).jpg"/>
          <p:cNvPicPr/>
          <p:nvPr/>
        </p:nvPicPr>
        <p:blipFill>
          <a:blip r:embed="rId1"/>
          <a:stretch/>
        </p:blipFill>
        <p:spPr>
          <a:xfrm>
            <a:off x="5105520" y="4648320"/>
            <a:ext cx="2946240" cy="196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51" name="Picture 2" descr="C:\Users\Katarina\Desktop\Zdrastveni karton\karto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Picture 2" descr="C:\Users\Katarina\Desktop\Zdrastveni karton\karton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Picture 2" descr="C:\Users\Katarina\Desktop\Zdrastveni karton\karton 3.jpg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 txBox="1"/>
          <p:nvPr/>
        </p:nvSpPr>
        <p:spPr>
          <a:xfrm>
            <a:off x="228600" y="5331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Perpetua"/>
              </a:rPr>
              <a:t>Медицинска документација садржи информације које се односе на здравствену заштиту појединца, и које су сложене у неколико група</a:t>
            </a:r>
            <a:r>
              <a:rPr b="1" lang="sr-RS" sz="26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Perpetua"/>
              </a:rPr>
              <a:t>Лични и основни социјалнодемогтафски подаци (име, узраст, пол, место боравка, занимање, најближи сродник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Perpetua"/>
              </a:rPr>
              <a:t>Клиничке информације (симптоми, знаци, резултати тестова, дијагнозе, начин лечења, напредовање болести, исход лечења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Perpetua"/>
              </a:rPr>
              <a:t>Економске информације (начин плаћања, врста здравственог осигурања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Perpetua"/>
              </a:rPr>
              <a:t>Административни подаци (место пружања задравствене заштите, здравствена установа, тип услуге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Perpetua"/>
              </a:rPr>
              <a:t>Бихевиорални подаци (одбијање односно давање сагласности за одређен начин лечења, долазак или не долазак на прегледе, прекидање терапије</a:t>
            </a:r>
            <a:r>
              <a:rPr b="0" lang="sr-RS" sz="2600" spc="-1" strike="noStrike">
                <a:solidFill>
                  <a:srgbClr val="000000"/>
                </a:solidFill>
                <a:latin typeface="Cambria"/>
              </a:rPr>
              <a:t>,</a:t>
            </a:r>
            <a:r>
              <a:rPr b="0" lang="sr-Latn-RS" sz="2600" spc="-1" strike="noStrike">
                <a:solidFill>
                  <a:srgbClr val="000000"/>
                </a:solidFill>
                <a:latin typeface="Perpetua"/>
              </a:rPr>
              <a:t>...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Picture 2" descr="C:\Users\Katarina\Desktop\Zdrastveni karton\karton 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2" descr="C:\Users\Katarina\Desktop\socijalna kme\Naslovna1.jpg"/>
          <p:cNvPicPr/>
          <p:nvPr/>
        </p:nvPicPr>
        <p:blipFill>
          <a:blip r:embed="rId2"/>
          <a:stretch/>
        </p:blipFill>
        <p:spPr>
          <a:xfrm>
            <a:off x="5638680" y="3429000"/>
            <a:ext cx="320040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57" name="Picture 2" descr="C:\Users\Katarina\Desktop\Zdrastveni karton\ulozak kartona 2.jpg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59" name="Picture 2" descr="C:\Users\Katarina\Desktop\Zdrastveni karton\ulozak kartona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Browallia New"/>
              </a:rPr>
              <a:t>ХВАЛА НА ПАЖЊИ!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1461" name="Picture 5" descr="C:\Users\Mirjana Petrovic\Desktop\unnamed (6).jpg"/>
          <p:cNvPicPr/>
          <p:nvPr/>
        </p:nvPicPr>
        <p:blipFill>
          <a:blip r:embed="rId1"/>
          <a:stretch/>
        </p:blipFill>
        <p:spPr>
          <a:xfrm>
            <a:off x="685800" y="3276720"/>
            <a:ext cx="7772400" cy="33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 txBox="1"/>
          <p:nvPr/>
        </p:nvSpPr>
        <p:spPr>
          <a:xfrm>
            <a:off x="380880" y="6854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Здравствена документациј</a:t>
            </a: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 и евиденција воде се у писменом или електронском облику!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321" name="Picture 3" descr="C:\Users\Mirjana Petrovic\Desktop\1-primena-novog-zakona-o-zdravstvenoj-dokumentaciji-i-evidencijama-u-oblasti-zdravstva.jpg"/>
          <p:cNvPicPr/>
          <p:nvPr/>
        </p:nvPicPr>
        <p:blipFill>
          <a:blip r:embed="rId1"/>
          <a:stretch/>
        </p:blipFill>
        <p:spPr>
          <a:xfrm>
            <a:off x="380880" y="3124080"/>
            <a:ext cx="411480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22" name="Picture 4" descr="C:\Users\Mirjana Petrovic\Desktop\unnamed (3).jpg"/>
          <p:cNvPicPr/>
          <p:nvPr/>
        </p:nvPicPr>
        <p:blipFill>
          <a:blip r:embed="rId2"/>
          <a:stretch/>
        </p:blipFill>
        <p:spPr>
          <a:xfrm>
            <a:off x="4876920" y="3124080"/>
            <a:ext cx="3924360" cy="32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263760"/>
                <a:gridCol w="5880240"/>
              </a:tblGrid>
              <a:tr h="557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ирна медицинска документац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 лако да се но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ји велика слобода у записивању по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захтева специјалну обуку за вођење документ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ладиштење које обезбеђује да се подаци неће изгубити или промени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беђује приватност по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рганизованост и конфуз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тећење приликом нош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шкоће у проналажењу информ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итак или немогућност размене информација између различитих давалаца услу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гментовани и неинтегрисани подаци могу водити губитку континуитета у здравственој зашти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бедност, поверљивост, интегритет и аутентичност података могу бити наруш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шкови чувања су вел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ирна и електронска медицинска документациј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5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684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нска медицинска документац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11676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кше подржава истраживања и омогућава дуготрајну доступност по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еди физички простор, омогућава електронску размену података и редукује трошкове система з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огућава приступ са више места истовремено, већа је доступност података и лакша је читљив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едноставније је креирање јединствене документације о  корисн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жава структуирана унос по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томатска провера уноса података, правопис и прописане рецепте, и упозорава на греш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и трошкови приликом увођења, и ограничени ресурси здравствених уста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ак компијутерских вештина запослених и експертизе од надлежног особљ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пор здравствених радника и других здравствених професионалаца да прихвате електронску документацију уместо папир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итак „људскости“ немогућност уношења сопственог мишљења и погледа на пациј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бедност, поверљивост, интегритет и аутентичност података могу бити наруш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r-R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ђење медицинске документације јесте законска обавеза свих здравствених радни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304560" y="2209680"/>
            <a:ext cx="88390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и о предузетим активностима на лечењу пацијен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на сигурност (корисника и даваоца здравствених услуг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ђење евиденција, састављање и достављање прописаних извештаја саставни је део стручног медицинског рада здравствених организациј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5T12:37:20Z</dcterms:created>
  <dc:creator>Ceca</dc:creator>
  <dc:description/>
  <dc:language>en-US</dc:language>
  <cp:lastModifiedBy>Mirjana Petrovic</cp:lastModifiedBy>
  <dcterms:modified xsi:type="dcterms:W3CDTF">2021-08-31T07:54:18Z</dcterms:modified>
  <cp:revision>218</cp:revision>
  <dc:subject/>
  <dc:title>PowerPoint Presentation</dc:title>
</cp:coreProperties>
</file>